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D59-3FA5-4B94-A892-90530425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007-819E-4611-9E00-EBCE4F8D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2AA-67F6-4207-8ED2-E31CAC51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84C-E106-4DE4-8E62-062D8097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BCF-1DE2-49D0-98A1-B4B438D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502-E06B-47D7-941C-D7EA21A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D94-9AC8-4C1F-B230-8E0BCED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DBB-496C-438B-8BC4-FB314892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2C6-D699-4938-984C-585286BA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C91-106F-481C-A8B3-8A59F8C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4F1-4538-4BD0-9D11-638CC5E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832-874C-49C6-97AC-F5556687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3C7A-3DCF-4F80-93A4-D3C32FF2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21:13:20Z</dcterms:created>
  <dc:creator>ASD</dc:creator>
  <dc:description/>
  <dc:language>en-US</dc:language>
  <cp:lastModifiedBy>ASD</cp:lastModifiedBy>
  <dcterms:modified xsi:type="dcterms:W3CDTF">2010-06-22T21:13:36Z</dcterms:modified>
  <cp:revision>1</cp:revision>
  <dc:subject/>
  <dc:title>Slide 1</dc:title>
</cp:coreProperties>
</file>